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30FE-5874-41C6-8F4D-5CCDCFB7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B3C9-4E40-4413-A2D1-4A85A212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B0C1-BE8E-4DB4-B4FE-79DF0210B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9FC8-C22E-4F50-88AE-55C1D5D0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FA96-4CAB-4748-BB6F-1893E547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65B7-68E5-42A9-924D-62475EB0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85EB-1DBB-4078-806A-2BC82EDB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5D14-504E-4A7A-AFE9-650628D2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C9C6-6101-45EE-A8F1-C72A360F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2138-BD50-4F4C-A00B-EED7D4C1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9234-0828-4D69-8AB7-FC11E224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28BC-BC1A-4B91-BEBD-FE5C254B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9710-B31C-4E1D-86C8-9ECED739F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virusmyth.com/aids/" TargetMode="External"/><Relationship Id="rId2" Type="http://schemas.openxmlformats.org/officeDocument/2006/relationships/hyperlink" Target="http://www.factcheck.org/" TargetMode="External"/><Relationship Id="rId3" Type="http://schemas.openxmlformats.org/officeDocument/2006/relationships/hyperlink" Target="http://www.justice.gov/" TargetMode="External"/><Relationship Id="rId4" Type="http://schemas.openxmlformats.org/officeDocument/2006/relationships/hyperlink" Target="http://www.demos.org/inequality/" TargetMode="Externa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esearchnews.osu.edu/archive/bcaphysical.htm" TargetMode="External"/><Relationship Id="rId2" Type="http://schemas.openxmlformats.org/officeDocument/2006/relationships/hyperlink" Target="http://www.diet.com/" TargetMode="External"/><Relationship Id="rId3" Type="http://schemas.openxmlformats.org/officeDocument/2006/relationships/hyperlink" Target="http://www.peta.org/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lcweb2.loc.gov/cgi-bin/ampage?collId=rbc3&amp;fileName=rbc0001_2004pe76546page.db&amp;recNum=0" TargetMode="External"/><Relationship Id="rId2" Type="http://schemas.openxmlformats.org/officeDocument/2006/relationships/hyperlink" Target="http://www.hbci.com/~tgort/king.htm" TargetMode="External"/><Relationship Id="rId3" Type="http://schemas.openxmlformats.org/officeDocument/2006/relationships/hyperlink" Target="http://avalon.law.yale.edu/18th_century/declare.asp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keypad.org/bunnies/index.html" TargetMode="External"/><Relationship Id="rId2" Type="http://schemas.openxmlformats.org/officeDocument/2006/relationships/hyperlink" Target="http://lsb.scu.edu/~mkevane/womten.htm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rchive.org/web/web.php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bci.com/~tgort/index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site Eval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ood stuff vs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Bad st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History 2d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is responsible for the s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s there an auth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an I contact the author with an e-mail address or phone number provid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s the author an authority in the subject? What are his credentials? Is he </a:t>
            </a:r>
            <a:r>
              <a:rPr b="0" lang="en-CA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ntroversi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s there a </a:t>
            </a:r>
            <a:r>
              <a:rPr b="0" lang="en-CA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ponsor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for the site? </a:t>
            </a:r>
            <a:r>
              <a:rPr b="0" lang="en-CA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epu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you may have to truncate back to home page to find the author or check for an </a:t>
            </a:r>
            <a:r>
              <a:rPr b="0" lang="en-CA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“about us”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utton (or something like that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You should look up the author in Goo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the site on the Net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ive infor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o instr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e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something (to make mone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ersu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Is it free of bia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ed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as the page/site published or last upd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able to find this info. at top or bottom of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have to truncate back to fin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date current enoug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o date is found, should you trust the sit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k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re the links on the page appropriate for the subj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o they all work (are they up to date) or are they dead lin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o links to the page/site you are 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using Google, search “link: type the UR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information alter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nformation a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imary sour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vailable via PD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nformation summarized or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e-typed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by author? Is it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eputabl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,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it been alte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re erro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of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information give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seful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, valuable, worth hav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info. Detailed and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n-dep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s been on the site in the past? What did it look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eck the content of the site from months or years ag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as it always been reliable? Has it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anged recently…for the wor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e “</a:t>
            </a: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ay Back Machin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”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sn.ca (look at first pag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portsnet.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Ques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ers of many gre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lude Penguin, HarperCollins, Bantam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a publisher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ern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ter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Answ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one can publish anything to the Internet. We can all be publis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’s a good thing…that’s a bad th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you can find anything on 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people can publish falsehood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unreliable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Your responsibilit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nsure that all the resources you use are reliable/reputable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cluding web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critical about who is telling you what. To question. To think, think, thi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Ques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o you search for material on the Internet? What search tool do you 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Answer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: probably Goo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Check this ou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ites on “women aids fac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ite #1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li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ite #2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li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ow plug in a </a:t>
            </a: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oogl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search for “women aids fac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ook at the h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cc33"/>
                </a:solidFill>
                <a:latin typeface="Arial"/>
              </a:rPr>
              <a:t>Google ain’t G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lthough Google is a good search engine, it does NOT sift through the Internet and provide only “good” s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hat job is you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ow to Evaluate Websites…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do I know if a website is reliable or no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’s not easy. Many websites are made to look really good, and they do fool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 best you can using som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all of the following indicator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the U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s it someone’s </a:t>
            </a: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ersonal pag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look for ~ or % or “users” or “members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.com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commerci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.gov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govern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.net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network infrastruc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.org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organiz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.edu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edu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s the domain appropriate for the conte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9:12:46Z</dcterms:created>
  <dc:creator>ICT</dc:creator>
  <dc:description/>
  <dc:language>en-US</dc:language>
  <cp:lastModifiedBy>ICT</cp:lastModifiedBy>
  <dcterms:modified xsi:type="dcterms:W3CDTF">2011-03-01T16:54:47Z</dcterms:modified>
  <cp:revision>48</cp:revision>
  <dc:subject/>
  <dc:title>Website Evaluations</dc:title>
</cp:coreProperties>
</file>